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865902"/>
        <c:axId val="88371901"/>
      </c:barChart>
      <c:catAx>
        <c:axId val="418659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71901"/>
        <c:crosses val="autoZero"/>
        <c:auto val="1"/>
        <c:lblAlgn val="ctr"/>
        <c:lblOffset val="100"/>
        <c:noMultiLvlLbl val="0"/>
      </c:catAx>
      <c:valAx>
        <c:axId val="883719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659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A932-BDC9-48D9-A2D3-F483BCC4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DFC4-77DA-445D-B15F-A300A76C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3DFD-32CF-4F48-952A-BDEB005A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D6B7-53F8-4E9B-83C1-E3BC25E1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539C-CE32-4EE0-AF79-6A3A9E53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110D-508D-49FE-9D2D-EC201A8E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6813-636C-4DAB-A8EB-3BF0156C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820E-822C-47A8-90C4-62310432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A6B7-E79C-401F-8D34-B060DC81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A5A5-334B-4043-990F-2B2DE139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4364-A89C-4A46-A0C9-71A1BA5B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2AE4-AC10-4D11-A94E-CDFED930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E7481-6DE3-4DA4-9736-7EEDF5DA7E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