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90941"/>
        <c:axId val="84373136"/>
      </c:barChart>
      <c:catAx>
        <c:axId val="21390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3136"/>
        <c:crosses val="autoZero"/>
        <c:auto val="1"/>
        <c:lblAlgn val="ctr"/>
        <c:lblOffset val="100"/>
        <c:noMultiLvlLbl val="0"/>
      </c:catAx>
      <c:valAx>
        <c:axId val="84373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0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BFE-73B3-45B7-9AEE-199DE3B3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BCC-973A-49DB-8DAE-569F59E9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82D-1916-4C0F-B5C4-C5058C25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244-A8F8-4C86-B872-60EB4AAF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FC2-7E7E-4B5C-92E5-3861B293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E5D-4AAA-47E4-A7CF-E7B0329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D3F-34B6-4A13-8E15-03ED6B3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FE4-4FFD-451E-8095-B72D8C7C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ACA-D36E-4900-B18C-0622387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CD3-BB07-4878-9341-7B73E55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9F2-5010-43D6-8A8A-29A93AF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78F-FA16-4E17-B70B-5C98F3D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20972-7764-4535-9F03-720E0D9B13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